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302-54FC-4953-97B3-F577D0A9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19F-7A66-47DC-BF8B-0650DAAA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7D5-A52F-47C7-9BCF-8734E226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621-D85D-499C-BB56-0CC06ED4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2B41-94A7-4736-8D70-2AC490C0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E7D2-E6F5-4266-9DA1-C83591F2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D5F6-CFC1-4E62-8846-EECF221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B218-9707-412F-88B5-D63BF4E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ACCF-C75A-4421-B812-08253073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082E-AD1E-4297-9978-0EEDFACA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04BA-B168-4495-B326-90F28304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D59-C3A4-413B-8326-7832F284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2740-C957-4D95-8CCE-75DB39E8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8652-3F3A-4450-9366-59FAE3A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AD00-3E89-41B2-8A03-D3AC28DB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F727-E540-4961-966A-26018EAE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1E03-06C4-4F34-929D-7EA90DE0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A36-26F6-4EB1-904F-3D2733FA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DFF-00A8-4948-A90E-05EA0022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63B-C9D0-44B9-86FE-29190452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B96-13F7-464F-AAA6-F6790C56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2EB-E294-4627-B5CB-16AC36C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89C-A445-40D0-B9D9-F32E9BB0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02A-1FD1-4D23-91C4-8282C0D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D225-3DC8-42F3-B37D-5D835C1C262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DA5-FE82-4E0B-ABDD-09716DC715A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Verdana"/>
              </a:rPr>
              <a:t>Unser Thema: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Verdana"/>
              </a:rPr>
              <a:t>Die Familie</a:t>
            </a:r>
            <a:r>
              <a:rPr b="1" lang="en-US" sz="48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33cc"/>
                </a:solidFill>
                <a:latin typeface="Verdana"/>
              </a:rPr>
              <a:t>M</a:t>
            </a:r>
            <a:r>
              <a:rPr b="1" lang="en-US" sz="4800" spc="-1" strike="noStrike">
                <a:solidFill>
                  <a:srgbClr val="0033cc"/>
                </a:solidFill>
                <a:latin typeface="Verdana"/>
                <a:ea typeface="Arial"/>
              </a:rPr>
              <a:t>ü</a:t>
            </a:r>
            <a:r>
              <a:rPr b="1" lang="en-US" sz="4800" spc="-1" strike="noStrike">
                <a:solidFill>
                  <a:srgbClr val="0033cc"/>
                </a:solidFill>
                <a:latin typeface="Verdana"/>
              </a:rPr>
              <a:t>ller feiert Ostern.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2679840" y="113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4824360" cy="3612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19640" y="270828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3573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Verdana"/>
              </a:rPr>
              <a:t>Zur Frühlingszei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7489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Limu, limu, leime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Hell die Sonne scheine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Über Berge und Seen,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Über Felder und Höhn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Scheine Sonne so schön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Zur Frühlingszeit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Verdana"/>
              </a:rPr>
              <a:t>Hausaufgab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488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Seite 60, Wörter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lernen;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AB. Seite 41, Üb.1,2;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Bilder malen und sie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unterschreiben*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Verdana"/>
              </a:rPr>
              <a:t>Die Familie Müller feiert Oster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14434" t="23839" r="11923" b="20626"/>
          <a:stretch/>
        </p:blipFill>
        <p:spPr>
          <a:xfrm>
            <a:off x="1835280" y="1052640"/>
            <a:ext cx="5689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Verdana"/>
              </a:rPr>
              <a:t>Neue Wörter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80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der Osterhase (die Osterhasen)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verstecken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das Osterei (die Ostereier)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bemalen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das Ostergebäck backen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Die Familie Müller feiert Oster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4434" t="23839" r="11923" b="20626"/>
          <a:stretch/>
        </p:blipFill>
        <p:spPr>
          <a:xfrm>
            <a:off x="1835280" y="1052640"/>
            <a:ext cx="5689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3059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Verdana"/>
              </a:rPr>
              <a:t>Merkt euch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834920" y="1557360"/>
            <a:ext cx="68403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backen wie fahren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ch backe eine Tor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u bäckst Osterkuche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Er bäckt Ostergebäc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15112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Verdana"/>
              </a:rPr>
              <a:t>Wir bilden Sätze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91520" cy="820800"/>
          </a:xfrm>
          <a:prstGeom prst="rect">
            <a:avLst/>
          </a:prstGeom>
          <a:solidFill>
            <a:srgbClr val="edfad2"/>
          </a:solidFill>
          <a:ln w="7632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ie Famile, Ostern, Müller, feier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2833560"/>
            <a:ext cx="7489800" cy="581400"/>
          </a:xfrm>
          <a:prstGeom prst="rect">
            <a:avLst/>
          </a:prstGeom>
          <a:solidFill>
            <a:srgbClr val="ccffff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emalen, die Kinder, Osterei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005360"/>
            <a:ext cx="7885080" cy="581400"/>
          </a:xfrm>
          <a:prstGeom prst="rect">
            <a:avLst/>
          </a:prstGeom>
          <a:solidFill>
            <a:srgbClr val="f7d1fb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äckt, Ostergebäck, die Mutt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5229360"/>
            <a:ext cx="8351640" cy="10688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er Osterhase, die Eier, im Garten, versteckt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Verdana"/>
              </a:rPr>
              <a:t>Wörter im Ei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133720"/>
            <a:ext cx="5327640" cy="31464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F    W     Q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S 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Ü   E L R   Ä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    I   T     Y   U   O   P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 D   P  G   Ö   H   J  K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Z  X   V   B  N  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Verdana"/>
              </a:rPr>
              <a:t>Wo versteckt der Osterhase Eier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59280" y="4508280"/>
            <a:ext cx="5184720" cy="18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unter einem Bau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unter den Blum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der Hundehüt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6590" t="23351" r="38901" b="59006"/>
          <a:stretch/>
        </p:blipFill>
        <p:spPr>
          <a:xfrm>
            <a:off x="1979640" y="907920"/>
            <a:ext cx="4897440" cy="342288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Verdana"/>
              </a:rPr>
              <a:t>Was machst du zu Oster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. Bemalst du Eier zu Oster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- Ja, ich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2. Gibt es bei uns auch Osterkuche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- Ja, es gibt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. Isst du gern Kuchen und Gebäck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- Ja, ich esse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4. Hilfst du der Mutter Osterkuchen backen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- Ja, ich helfe …</a:t>
            </a: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7:24:20Z</dcterms:created>
  <dc:creator>Дима</dc:creator>
  <dc:description/>
  <dc:language>en-US</dc:language>
  <cp:lastModifiedBy>Admin</cp:lastModifiedBy>
  <dcterms:modified xsi:type="dcterms:W3CDTF">2009-10-15T19:50:07Z</dcterms:modified>
  <cp:revision>13</cp:revision>
  <dc:subject/>
  <dc:title>Unser Thema:  Familie Müller feiert Ostern.</dc:title>
</cp:coreProperties>
</file>